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69A-82CB-4F7C-9CFB-F5FEDB75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7CA-8DEB-4AB8-91EF-4DEBD470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49E-4A08-4095-9131-14746D8C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ED4-C0CE-4593-A0A6-77EADC30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DBE-7035-476C-9106-7D15E98F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374-4D28-4A1E-B851-4ACB9378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3B6-7180-4E40-88D7-BF162F7C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3C2-3E14-4A9A-8EE5-5380F184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839-D719-4FB1-B3E8-7653EB64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FB8-6014-440B-83D7-EE58BEF7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EC1-A685-4F22-A080-D641EB42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144-0AA1-4181-B370-D6996F1C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B14D-EF4D-4F92-81E0-0F5B3C6F5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5:12:32Z</dcterms:created>
  <dc:creator>Grupo Editorial</dc:creator>
  <dc:description/>
  <dc:language>en-US</dc:language>
  <cp:lastModifiedBy>Grupo Editorial</cp:lastModifiedBy>
  <dcterms:modified xsi:type="dcterms:W3CDTF">2001-11-20T15:15:10Z</dcterms:modified>
  <cp:revision>1</cp:revision>
  <dc:subject/>
  <dc:title>Sin título de diapositiva</dc:title>
</cp:coreProperties>
</file>